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FBF0-8390-4237-8412-614A8E33D3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F94C-5C96-4EB1-8AA0-867C5A4BCC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D9CD-2219-4E3E-93AE-8271B89C71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1042-B84C-4C85-9F02-7ABA119E43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9740-A479-4C94-B335-2942B0E304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8E0D-1905-4533-9EA5-BC420E6915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2B9C-2AFB-463A-A549-D4E7D635E2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6BA9-70F6-4BD3-9501-58D4C68DBC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9A4A-C59C-49C4-87F2-8B5D8C2AB1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1B4B-8381-4A70-A7DD-F0EDE2F282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38E0-D30F-4076-8189-318122B442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D17B-69ED-4A9E-8F0D-8BD4B7B813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ゴシック"/>
              </a:rPr>
              <a:t>Home Front in World War I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25" descr="hsus_ch19_s2_UncleSamPoster"/>
          <p:cNvPicPr/>
          <p:nvPr/>
        </p:nvPicPr>
        <p:blipFill>
          <a:blip r:embed="rId1"/>
          <a:stretch/>
        </p:blipFill>
        <p:spPr>
          <a:xfrm>
            <a:off x="3352680" y="2286000"/>
            <a:ext cx="22482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4"/>
          <p:cNvSpPr/>
          <p:nvPr/>
        </p:nvSpPr>
        <p:spPr>
          <a:xfrm flipH="1" rot="5400000">
            <a:off x="1218240" y="2209680"/>
            <a:ext cx="3200400" cy="3809880"/>
          </a:xfrm>
          <a:prstGeom prst="upArrowCallout">
            <a:avLst>
              <a:gd name="adj1" fmla="val 20937"/>
              <a:gd name="adj2" fmla="val 20519"/>
              <a:gd name="adj3" fmla="val 18843"/>
              <a:gd name="adj4" fmla="val 53315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29"/>
          <p:cNvSpPr/>
          <p:nvPr/>
        </p:nvSpPr>
        <p:spPr>
          <a:xfrm>
            <a:off x="5029200" y="2514600"/>
            <a:ext cx="350532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onscientious objec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were supposed to be exempt from the draf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practice, however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is exemption was widely ignored by local draft boar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28600" y="1447920"/>
            <a:ext cx="86868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ot all Americans supported the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143000" y="2743200"/>
            <a:ext cx="26668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e draft was controversial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nd some men refused to register for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10"/>
          <p:cNvSpPr/>
          <p:nvPr/>
        </p:nvSpPr>
        <p:spPr>
          <a:xfrm flipH="1" rot="10800000">
            <a:off x="838080" y="1523880"/>
            <a:ext cx="7391520" cy="1997280"/>
          </a:xfrm>
          <a:prstGeom prst="upArrowCallout">
            <a:avLst>
              <a:gd name="adj1" fmla="val 37902"/>
              <a:gd name="adj2" fmla="val 35106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29"/>
          <p:cNvSpPr/>
          <p:nvPr/>
        </p:nvSpPr>
        <p:spPr>
          <a:xfrm>
            <a:off x="1143000" y="3581280"/>
            <a:ext cx="701028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Jeannette Rankin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 pacifist and the only woman in Congress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voted against the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Jane Addam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formed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Women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 Peace Part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nd the Wome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International League for Peace and Freedo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295280" y="1828800"/>
            <a:ext cx="66294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ome women also opposed the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0"/>
          <p:cNvSpPr/>
          <p:nvPr/>
        </p:nvSpPr>
        <p:spPr>
          <a:xfrm flipH="1" rot="10800000">
            <a:off x="838080" y="1143000"/>
            <a:ext cx="7391520" cy="1844640"/>
          </a:xfrm>
          <a:prstGeom prst="upArrowCallout">
            <a:avLst>
              <a:gd name="adj1" fmla="val 41039"/>
              <a:gd name="adj2" fmla="val 38011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447920" y="1311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government passed law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iscourage diss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914400" y="2967120"/>
            <a:ext cx="7391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1917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Espionage A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ave postal authorities power 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ban newspapers or other printed material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at could incite treas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8, the Sedition Act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outlawed speech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at went against the government or the milita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ongress enacted laws that impos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heavy fines and prison term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n anyone who interfered with the war effor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60948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ar enthusiasm created by the CPI sometimes caused a backlash against German America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523880" y="2362320"/>
            <a:ext cx="62485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ome schools stopped teaching the German langu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eople stopped listening to music by German compos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y called hamburgers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iberty steak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nd dachshunds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iberty pups.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09480" y="51814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ccasionally, hatred of the German enemy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oiled over in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violence against German America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866880" y="990720"/>
            <a:ext cx="73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ar effort presented new opportuniti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o individuals, including African America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648320" y="2438280"/>
            <a:ext cx="41148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ltogether, 367,000 African Americans served in the milita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Great Migration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more than a million African Americans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  <a:ea typeface="Arial"/>
              </a:rPr>
              <a:t>moved north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hoping to escape poverty and Jim Crow laws and find better job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6" descr="hsus_ch19_2_GreatMigrationMap"/>
          <p:cNvPicPr/>
          <p:nvPr/>
        </p:nvPicPr>
        <p:blipFill>
          <a:blip r:embed="rId1"/>
          <a:stretch/>
        </p:blipFill>
        <p:spPr>
          <a:xfrm>
            <a:off x="419040" y="1962000"/>
            <a:ext cx="4152960" cy="42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866880" y="1143000"/>
            <a:ext cx="73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omen embraced the opportunities that became available during the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AutoShape 4"/>
          <p:cNvSpPr/>
          <p:nvPr/>
        </p:nvSpPr>
        <p:spPr>
          <a:xfrm flipH="1" rot="5400000">
            <a:off x="1637280" y="1714320"/>
            <a:ext cx="2819520" cy="3809880"/>
          </a:xfrm>
          <a:prstGeom prst="upArrowCallout">
            <a:avLst>
              <a:gd name="adj1" fmla="val 20937"/>
              <a:gd name="adj2" fmla="val 20519"/>
              <a:gd name="adj3" fmla="val 21389"/>
              <a:gd name="adj4" fmla="val 53315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371600" y="2514600"/>
            <a:ext cx="22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Women filled job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were vacated by men and participated in the war effor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143000" y="52578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proving that they could succeed in any type of job, women convinced President Wilson to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support their their demand to vote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181480" y="259092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5029200" y="2362320"/>
            <a:ext cx="3429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s of jobs filled by wome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c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r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mbulance driv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e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egraph opera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rm labor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914400" y="1981080"/>
            <a:ext cx="7238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how the American government mobilized the public to support the war effor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Describe opposition to World War I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Outline significant social changes that occurred during World War I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72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21932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914400" y="2057400"/>
            <a:ext cx="784872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elective Service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aw that established a military draft in 191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Bernard Baruch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head of the War Industries Board, which regulated businesses related to the war eff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ommittee on Public Information (CPI)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overnment agency created during World War I to encourage Americans to support the w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George Cree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director of the CP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7200" y="12193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(continued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609480" y="1981080"/>
            <a:ext cx="800100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onscientious objecto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erson whose moral or religious views forbid participation in w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Espionage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ct passed in 1917 enacting severe penalties for anyone engaged in disloyal or treasonable activi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lnSpc>
                <a:spcPct val="110000"/>
              </a:lnSpc>
              <a:spcAft>
                <a:spcPts val="1100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Great Migr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movement of African Americans in the twentieth century from the rural South to the industrial Nor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1752480" y="1523880"/>
            <a:ext cx="6705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ow did World War I affect Americans at hom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752480" y="2590920"/>
            <a:ext cx="662940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ar permanently changed American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relationship with their government. The federal government played a major role in American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daily lives, taking on new powers to regulate industry, draft soldiers, and shape public opinio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ar required sacrifice, but it also brought new opportuniti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586080" cy="61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2"/>
          <p:cNvSpPr/>
          <p:nvPr/>
        </p:nvSpPr>
        <p:spPr>
          <a:xfrm>
            <a:off x="914400" y="1476360"/>
            <a:ext cx="8534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n 1917, the United States needed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ncrease the size of its arm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3809880" y="2752560"/>
            <a:ext cx="480060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esident Wilson called for volunteer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ongress passed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elective Service A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650"/>
              </a:spcAft>
              <a:buClr>
                <a:srgbClr val="0033cc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More than 4 million U.S. soldiers were sent to Euro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5" descr="hsus_ch19_s2_UncleSamPoster"/>
          <p:cNvPicPr/>
          <p:nvPr/>
        </p:nvPicPr>
        <p:blipFill>
          <a:blip r:embed="rId1"/>
          <a:stretch/>
        </p:blipFill>
        <p:spPr>
          <a:xfrm>
            <a:off x="990720" y="2676600"/>
            <a:ext cx="2247840" cy="30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29"/>
          <p:cNvSpPr/>
          <p:nvPr/>
        </p:nvSpPr>
        <p:spPr>
          <a:xfrm>
            <a:off x="762120" y="121932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o support the new army, the federal government took control of the econom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990720" y="2666880"/>
            <a:ext cx="647676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Council of National Defense created federal agencies to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oversee food production, fuel distribution, and railroa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160" indent="-227160">
              <a:spcBef>
                <a:spcPts val="12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Bernard Baruc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eaded the War Industries Board (WIB), which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egulated war-related busines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160" indent="-22716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Food Administration, led by Herbert Hoover,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et prices for agricultural produ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160" indent="-227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160" indent="-227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29"/>
          <p:cNvSpPr/>
          <p:nvPr/>
        </p:nvSpPr>
        <p:spPr>
          <a:xfrm>
            <a:off x="457200" y="12319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ar Industries Board encouraged factories to increase outpu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44" descr=""/>
          <p:cNvPicPr/>
          <p:nvPr/>
        </p:nvPicPr>
        <p:blipFill>
          <a:blip r:embed="rId1"/>
          <a:stretch/>
        </p:blipFill>
        <p:spPr>
          <a:xfrm>
            <a:off x="609480" y="2222640"/>
            <a:ext cx="4114800" cy="372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0" name="Text Box 45"/>
          <p:cNvSpPr/>
          <p:nvPr/>
        </p:nvSpPr>
        <p:spPr>
          <a:xfrm>
            <a:off x="5029200" y="2374920"/>
            <a:ext cx="335268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imilarly, the Food Administration encouraged farmers to produce more food to feed the soldi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Women entered the workfor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o help the war effor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10"/>
          <p:cNvSpPr/>
          <p:nvPr/>
        </p:nvSpPr>
        <p:spPr>
          <a:xfrm flipH="1" rot="10800000">
            <a:off x="838080" y="1294920"/>
            <a:ext cx="7391520" cy="1676520"/>
          </a:xfrm>
          <a:prstGeom prst="upArrowCallout">
            <a:avLst>
              <a:gd name="adj1" fmla="val 45154"/>
              <a:gd name="adj2" fmla="val 41823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523880" y="14479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government also aimed to shape public opinio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143000" y="3124080"/>
            <a:ext cx="71629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ommittee on Public inform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(CPI)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encouraged public support for the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CSI, headed by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George Creel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distributed millions of pamphlets and sent out thousands of press releases and speak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PI materials outlined U.S. and Allied goals 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tressed the enemy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 cruel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1:03:55Z</dcterms:modified>
  <cp:revision>196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